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6618-7F08-4AC5-985A-EB6556026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100-3B08-4923-A279-996258315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9C2-A10A-416C-A56A-0D8BFBD5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F6B-17DC-4691-8F7B-7F7A2CA9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950-CA18-4214-B175-76866F00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59E-E4D9-45DF-A1C9-D1F4312B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625-630C-415A-804D-9AB217D0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9E7-BD3A-4F73-BB32-542B0994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F406-9981-4087-9C81-81000AC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635E-7551-46CF-8B2B-F0787C3C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108B-FF06-41C4-B962-3226FD61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9342-E738-4B1A-88EE-F0BF6EEC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5B2-8B86-4D22-A3F1-42410E9C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BFC-1751-4684-BD7F-B4A7EC03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7551-679D-4B2B-A3CF-90F4CE8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3753-60BB-4DE1-8675-F89142CB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E85C-D60B-4A74-9C47-B224619D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AF8C-3603-4AA0-935C-B59A9733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70F4-CE95-468B-84D4-F050F18A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CEC1-984C-4F31-8B85-68F51156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8A6E-2734-47D3-B7F5-FF6D680A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2AA2-EAEA-4356-AFBB-9BBA97F0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979F-E9F4-4A82-AB4B-ABE9C657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467F-EBDF-4341-98AA-E555E75F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2A0-9207-4518-A301-6775683B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1DAD-2A22-48C9-BA9B-F955F4D2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5E4E-6A56-448B-AC1C-E202234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0ADA-521C-44F3-9502-503A431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43A6-E950-4076-9D16-8BCA9F1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84C1-2BF2-439D-A7A0-23BEF2B2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8506-F98F-4AED-A346-461932F9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787D-C70D-4BF9-8941-3B15269A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DEC7-277D-49FA-B31C-CF3EDB80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11C4-4D92-4C19-89A4-4B06E91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BF3F9-F039-4D4F-B3C2-44687C6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1A0-BC6E-4FD0-A82D-BA33434E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F6A7-A1DE-4E5B-8AFC-C2490F2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8E72-3BBE-4E2C-8AAD-F89BD328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C4E9-392F-4C9C-9BCD-AAB07EA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0767-B3D7-4F34-B1B6-C7448EA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70D11-6979-4EA5-922C-1DD0B6F8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E08F-7388-4FF7-981A-50C4E98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EEC2-EA71-4D6E-AEF8-09CAFA2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B9F5-94AD-4531-B94A-72D801DF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EF7B-BDB8-4BE2-A896-07AA041E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8CACA-2917-40AD-BD05-DD5F9863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B98-C3C9-466F-B6D0-7FC3C656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E13B-410F-49A9-B5B4-555460F5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26C9-EC06-434B-90BE-C7250B9A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84CF-ACD8-4AB6-8373-3EB0BED4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1F09-C010-40C8-A009-95430BC1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B38D2-ECF7-48E0-A6CA-A524680A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72B8-D851-4B84-AF5C-77E30CD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F4E10-A7CF-47B7-BD94-38A33926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28B4-6588-4E08-B2C8-B0C1FC2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A61E-3563-44BA-9C56-6BFA67F6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45BF-CAD1-4C9B-93C1-9A10016A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805-068C-4B9F-89AC-3ADDD7A6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A4B67-B785-4CF9-B9D8-D19AC24A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E84-96AC-46C9-8432-21C9886D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422-6502-4878-A6DC-AF375C12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C96-D6CB-4FD4-B0CF-4A00738A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3B6E-38E1-4885-A3CB-AE008FC2BA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D56-CE3D-4D53-BB7C-BF52E611F9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0857-76AB-4D83-97F2-5C3E85651C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C1D-CDE8-432E-A325-E65C534A7E6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BA04-4F07-41E9-B1DF-C97EB17E9E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DEMONSTRATIVE ADJECTI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6.2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IS THE PURPOSE OF DEMONSTRATIVE ADJECTIVES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emonstrative adjectives describes the location of a NOUN in relation to a person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emonstrative adjectives in English are “This” “That” and “That over there”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r example: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s book, that chair, that table over there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n we say “This,” we are implying that the object is relatively close to the person speaking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n we say “that,” we are implying that the object is a bit further away from the person speaking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n we say “that over there” we are implying that the object may be some distance, across the room, perhaps from the person speaking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ARE THEY IN SPANISH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sculi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600200"/>
          <a:ext cx="6705720" cy="243828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e (th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os (the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e (t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os (t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 (that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los (those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29" name="TextBox 4"/>
          <p:cNvSpPr/>
          <p:nvPr/>
        </p:nvSpPr>
        <p:spPr>
          <a:xfrm>
            <a:off x="4952880" y="4876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tice there are NO accent marks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Up Arrow 9"/>
          <p:cNvSpPr/>
          <p:nvPr/>
        </p:nvSpPr>
        <p:spPr>
          <a:xfrm rot="19932600">
            <a:off x="3825720" y="4017960"/>
            <a:ext cx="914400" cy="123516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val 7"/>
          <p:cNvSpPr/>
          <p:nvPr/>
        </p:nvSpPr>
        <p:spPr>
          <a:xfrm>
            <a:off x="304920" y="3114720"/>
            <a:ext cx="4647960" cy="3048120"/>
          </a:xfrm>
          <a:prstGeom prst="ellipse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ARE THEY IN SPANISH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emini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62120" y="1600200"/>
          <a:ext cx="6095880" cy="148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a (th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as (the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a (t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as (t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la (that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las (Those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35" name="TextBox 4"/>
          <p:cNvSpPr/>
          <p:nvPr/>
        </p:nvSpPr>
        <p:spPr>
          <a:xfrm>
            <a:off x="6172200" y="358128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tice there are NO accent marks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Left Arrow 5"/>
          <p:cNvSpPr/>
          <p:nvPr/>
        </p:nvSpPr>
        <p:spPr>
          <a:xfrm rot="2797800">
            <a:off x="4800240" y="3581280"/>
            <a:ext cx="1371600" cy="660240"/>
          </a:xfrm>
          <a:prstGeom prst="leftArrow">
            <a:avLst>
              <a:gd name="adj1" fmla="val 50000"/>
              <a:gd name="adj2" fmla="val 5010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609480" y="35812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This and These have “T’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That and Those don’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The ones with “A” are far away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ABOUT DEMONSTRATIVE PRONOUNS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monstrative pronouns are used in place of the adjective and the noun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r example, saying “can you give me this one?” is a use of a demonstrative pronou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demonstrative pronouns are used this way, they have an accent mark over the “e”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19320" y="2819520"/>
          <a:ext cx="6858000" cy="2514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te, é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tos, é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e, é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os, é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quél, aqué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quéllos, aqué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41" name="TextBox 8"/>
          <p:cNvSpPr/>
          <p:nvPr/>
        </p:nvSpPr>
        <p:spPr>
          <a:xfrm>
            <a:off x="6400800" y="5638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ice these have accent marks!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Left Arrow 9"/>
          <p:cNvSpPr/>
          <p:nvPr/>
        </p:nvSpPr>
        <p:spPr>
          <a:xfrm rot="2140200">
            <a:off x="5001840" y="5655960"/>
            <a:ext cx="1447920" cy="5335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ORE DEMONSTRATIVE PRONOU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There are also demonstrative pronouns that refer to ideas or unidentified things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There is no specific gender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For example, “this is important.” – </a:t>
            </a:r>
            <a:r>
              <a:rPr b="1" lang="en-US" sz="2000" spc="-1" strike="noStrike">
                <a:solidFill>
                  <a:srgbClr val="ff0000"/>
                </a:solidFill>
                <a:latin typeface="Franklin Gothic Medium"/>
              </a:rPr>
              <a:t>Esto 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es important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Or “What is that?”--- ¿Que es </a:t>
            </a:r>
            <a:r>
              <a:rPr b="1" lang="en-US" sz="2000" spc="-1" strike="noStrike">
                <a:solidFill>
                  <a:srgbClr val="ff0000"/>
                </a:solidFill>
                <a:latin typeface="Franklin Gothic Medium"/>
              </a:rPr>
              <a:t>eso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Or “What is that over there?”-- ¿Qué es </a:t>
            </a:r>
            <a:r>
              <a:rPr b="1" lang="en-US" sz="2000" spc="-1" strike="noStrike">
                <a:solidFill>
                  <a:srgbClr val="ff0000"/>
                </a:solidFill>
                <a:latin typeface="Franklin Gothic Medium"/>
              </a:rPr>
              <a:t>aquello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When demonstrative pronouns are used this way, there is no accent mark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Notice that the form is a little bit different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3:22:20Z</dcterms:created>
  <dc:creator>Prine, Stephanie</dc:creator>
  <dc:description/>
  <dc:language>en-US</dc:language>
  <cp:lastModifiedBy>Prine, Stephanie</cp:lastModifiedBy>
  <dcterms:modified xsi:type="dcterms:W3CDTF">2013-01-23T15:15:33Z</dcterms:modified>
  <cp:revision>7</cp:revision>
  <dc:subject/>
  <dc:title>Demonstrative adjectives</dc:title>
</cp:coreProperties>
</file>